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34C-5AC4-4740-A938-E123F0D5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0CD-F853-4113-BDB8-D8260263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058-F7EB-43A8-8B6F-5C89F2BB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761-573B-45F7-A4A2-37FDC861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2EB-CAE7-4A80-8989-0E5A9EB8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96D-F4CC-4461-BAFD-31AFF5A4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F35-2D7A-49B7-9492-68459281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3D5-60FC-411C-A170-D48F1CF9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E5B-94B1-4927-BC1D-AB87008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9F4-BFA2-4B43-86EA-A34CA898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01A-FBD5-477E-AE6F-B80F570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243-A20F-46CE-9E33-AC6FD0F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573-9DA9-4838-838F-D3AA12B836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5640" y="5013000"/>
            <a:ext cx="4535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95959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1042920" y="4437000"/>
            <a:ext cx="60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c000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3-11T10:53:06Z</dcterms:modified>
  <cp:revision>761</cp:revision>
  <dc:subject/>
  <dc:title>Diapositiva 1</dc:title>
</cp:coreProperties>
</file>